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833-FFF7-48C0-97F3-557F753B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B41-BBD0-4F73-B0E3-3FECFEE9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46DF66-DED0-4253-AD9C-45A3A7BB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2D9F7-D91F-485C-9CDB-05BF37C1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1247A-709A-4F1A-9538-6EA6063B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52964-10C1-4A00-94E3-241BFC6D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B2A410-2769-469B-8674-2BB5E777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91E12F-1E00-48A4-A8EB-A18DC598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0DE3D-746E-4F28-BB32-9B95F55C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CD9B5-E645-4A3D-90A2-D47F2E55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9B6728-0022-483C-ABA1-6ED817D9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6EB63-F520-496C-8781-E44A85FA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533E-2837-40D1-9B9F-D7BF7E39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3697E-AAC5-4669-A3FA-9F956948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AC1A2E-44D9-4E3F-8A61-A47617F0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B5054-E446-4FD6-A2E3-A3CCF288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FB2CB0-DEE3-46EB-9BE1-B72E8072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748AD-22CC-4772-BE86-AF5C40A5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BDA0B-F474-4D5C-B827-CB6762D8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B9D4C-641D-4E54-856F-5B05CD83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59569-474C-4E91-A288-04B542C8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8E752-5242-42C6-8C21-21C45A19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3B3ED-9645-4B3B-BF5C-CC9A34EF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850-77B9-4835-A4E5-A589577A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05B49-0083-4C8A-B75D-A931991C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B9A8C-69D1-471D-8E0D-683A46EB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93A65-CDD7-4AF6-AEDE-165223D2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7A04F-7D86-46FF-AAD2-02D5B788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74828-57B6-41D3-8ED2-EA2EAFEE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851A1-A408-47A5-8C4A-A8D761BB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457D1-C83E-4F5E-BB76-3FA8D43B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4056E-67A3-418A-98B7-1951DC75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B1AC9-A090-4E22-8496-4E78DB0B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B2265-309A-438B-AB5D-ACF52AD2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D371-C41D-42FE-85B8-3E7B1CED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E2473-1B3E-4DF7-B0F0-AFA154CC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B11E0-5152-4558-B9F9-5449F2A9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F859D-13DB-4FDB-8AFB-92464EE4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68F9B-0EAA-45A8-934E-4621743E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992C5-968B-4858-90CA-2AC60E3E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592F9-2A28-4AC6-9E75-467EDCB0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0ABEF-096C-48FD-851F-FF95F719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A88D8-3B01-4191-9AF4-379EC755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309E1-4D6F-4A10-BEB7-4E1F041F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49D4C-D298-4BC8-9D01-4F9AB65A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7B18-623B-4E95-B378-4F8086EB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607BA-DF1D-439F-970F-841C3840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1364F-C336-461C-9D45-0CDEC9DE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89F06-0D39-4734-94B5-D75DCFD4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63948-BCB7-4574-9625-865F8E68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E008B-6BAA-4DD9-B20B-169E0EA5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06DF-A8F6-473B-B751-CA528672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56BA-6DF0-42ED-A6EE-AB853628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394A-B841-4EFD-9731-46B64CFC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61AF-2C7E-41FF-A27E-2D5B6E6A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5B00-9AB6-45B2-8356-D5B66410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039-8266-45DF-BE76-87DD8CEC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FDAC-7203-469B-9785-143E3DBC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2F91-709D-4CCD-B2B6-26EDB1D8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511F-F693-40E5-9CF0-59FD06A6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F1FB-D1B4-4C50-8441-AA9B1E2F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2A5E-2EC3-4269-BCA4-BCC45A74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D2F48-464D-4FE4-8EE5-DBEE4E89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AFCFD-9B2A-4815-A24F-6CD15FBC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5F10A-899B-418B-9398-F48D9B2C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AA316-3628-4B97-958F-F02F3096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24522-0313-4FA8-A33B-53241CAE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9B5-CFFF-4EB9-8DEF-1462B4C7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D98D2-F55C-4601-80E5-9C2F2F46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8E746-C209-471B-B8D2-EFBA360E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D0BCD-0C12-491D-B4B3-F2F74A22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CDC3-7EE0-4585-B7F3-7AC114CC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983A-484C-4E48-AABC-FEF6498A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BEA41-027F-4C9F-A3DB-B503D8BF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CBBA4-48FC-4FBA-9A40-9E1A85D5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90C44-C89D-42C3-919C-6DC63274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CD08E-ADFB-408C-8364-AFE2E0B2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E8138-93B8-4DC0-975E-192E7CEE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2C5-9BC4-419C-911A-8052C6C9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6267E-F141-4EEB-BBA5-5617C589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AF133-28EA-4E51-A3E8-F1A50828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261A2-1A99-48C1-8017-DEA4069E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C530D-1AD2-46AC-BE98-8E03EE25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8B4F0-129F-4E65-8809-31819199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71221-7EB7-4352-855A-2A734FB9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F82D9-9F07-4166-BDC0-D3013E41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987C2-BD7C-48CD-B0EB-E09C8481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10C86-66D9-472F-8441-6B069949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9DB0D-2FED-4CAA-B79C-2EE2C108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D55-DE19-4C04-8FBB-79BA62DF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2BD3D-F90E-45E5-BEE5-079C8620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48D1A-BD48-40BE-B923-9D15BD12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6E3B8-D0F6-4FE0-B648-5BE0081E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F8930-E9D1-4BA4-9E95-61CF3FC2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9D09E-AC6E-41B4-ACBA-6A46EABD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C9F9A-3398-4AE5-9609-40A603F7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E906F-3B2A-4694-8646-F4A06923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963A7-FCCF-4A99-8F3B-C79ACFDE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7D03F-C720-48C7-9F33-FEC72EF1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E3481-6C14-4D1F-AEE8-00EB4579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467-E3C8-4987-800F-FF559CDD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59F4E-1228-4A54-B854-A9CE50F9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A178E-DD32-4339-BEC6-A1E30FCC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5BFEE-2EEF-447E-83F9-60EEA750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14086-FE88-4E9F-997B-0CD77AC0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3F582-BC58-4231-9891-31F56046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5B819-7F3C-4806-95E7-0D3D6E23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26314-7E91-4CD4-B21E-1E59B5A4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EDE34-C2B1-49C6-9302-47E2E6F3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7141F-C735-4988-BDD7-66F6D897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EAC63-2FCB-4CCA-9293-250AED3E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D4D-262C-44A8-910F-2B5CDA93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46BC2-3598-4761-8819-929D801C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99E0B-DEA2-43F5-80B6-797F5599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6461B-E7CA-4562-9571-1E2445E3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DB5DA-20E2-4640-B001-D4ECA864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E466C-1470-42CE-BF7C-9163A552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563AD-01CD-487B-B1DC-917E452A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69317-67E9-461C-B819-A853084B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337CD-5377-460C-AE78-22F8EFB5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BB58B-BA3B-4B1C-9613-2EEDE98D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415AD-266C-43DE-B21B-5D97F8F0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F57-C742-4D73-957D-51F12022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00117-0A53-4999-8684-50D2D0E9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71A37-A673-462A-B670-1823E5EE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3CB68-0564-4963-A750-C559A941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9541B-6AFF-4DFC-8E6A-92561E0A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66CA9-A7CC-4206-A282-E35C27E0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5849D-8D7D-4230-AE16-21153969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62308-CC7D-4A56-AF6E-C2436302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5B847-4302-4088-A418-7D335286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868DD-8905-4303-B181-16E4B0AB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1802C-F10C-4128-9A43-51B7E132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76E-F163-46E7-A2B7-1BF7B401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369B6-6DE5-4E1D-BB19-18333CB8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F363D-3004-4621-9197-A52EE156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76C57-F083-48D7-899E-8F99A3FA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314C9-0649-46A5-A872-23FA8FEF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1B101-7ED8-4FD4-A4F1-2673957A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B89DC-C11E-4B7C-8C67-86C953BC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377D3-5B46-4274-BB2A-F70B1D49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1CC39B-5D84-4279-BFCF-F01B37F3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2BF1F3-1753-4E80-81B1-15BB53A3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B3AAB-AA30-43B7-99C7-39442A02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8B8A-098C-438C-9C7D-761CD60BB2F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4E53-A346-45DD-A997-93DFACE73B9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F95D-52BA-4078-A327-0FA4FAE59D0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7B4C-9152-4289-AC55-0A555542B13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76B6-4451-424E-BC09-3109636D8C0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8EE9-4559-4F8B-81AA-6F7B609F53A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5B84-86FF-4EC2-A7AB-EB289475F0C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ABA4-2668-4BED-8F3D-3F227F02444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7D83-167D-447C-B30B-4559146642B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3B53-5CEC-4ABC-AD8F-CABA2C5FC82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E7A8-2526-41EF-9BBD-E1A97C25B57E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7F99-457E-4A69-8DF9-A5ECB304BEF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 KYLE BOTE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hoto Essay Evalua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2" descr="http://www.smh.com.au/ffximage/2007/10/31/sony_wideweb__470x399,0.jpg"/>
          <p:cNvPicPr/>
          <p:nvPr/>
        </p:nvPicPr>
        <p:blipFill>
          <a:blip r:embed="rId1"/>
          <a:stretch/>
        </p:blipFill>
        <p:spPr>
          <a:xfrm>
            <a:off x="2541600" y="3633840"/>
            <a:ext cx="41083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racteristics of the Gen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haracteristics I focused on were to make the audience feel uplifting and joyous. I also wanted the audience to feel as though they were traveling the globe at sporting even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y audience for the piece was my GT class and teacher of the class and (possibly in the future) paren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mentor texts that inspired me to create this were biographies of famous sport players and books of different cultures studie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2" descr="C:\Documents and Settings\Twlab\Local Settings\Temporary Internet Files\Content.IE5\4P02585H\MCj04238420000[1].wmf"/>
          <p:cNvPicPr/>
          <p:nvPr/>
        </p:nvPicPr>
        <p:blipFill>
          <a:blip r:embed="rId1"/>
          <a:stretch/>
        </p:blipFill>
        <p:spPr>
          <a:xfrm>
            <a:off x="3670200" y="4419720"/>
            <a:ext cx="1803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riting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680" y="12949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idea for this piece started when I was looking at photo essays online when I saw one for food people eat across the globe. I thought an around the world type essay would be a great idea. I also read and article about Brazil winning a soccer tournament when the two articles combined into my photo essay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had to research sports from corners of the globe and learn how they were played by using Google.  I found my images by figuring out the name of sports and Google-ing  the sport name. I also searched for uplifting music to fit my genr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2" descr="C:\Documents and Settings\Twlab\Local Settings\Temporary Internet Files\Content.IE5\QPAYIMES\MCj04417320000[1].png"/>
          <p:cNvPicPr/>
          <p:nvPr/>
        </p:nvPicPr>
        <p:blipFill>
          <a:blip r:embed="rId1"/>
          <a:stretch/>
        </p:blipFill>
        <p:spPr>
          <a:xfrm>
            <a:off x="4741920" y="18288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7"/>
          <p:cNvSpPr/>
          <p:nvPr/>
        </p:nvSpPr>
        <p:spPr>
          <a:xfrm>
            <a:off x="457200" y="228600"/>
            <a:ext cx="8229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b86"/>
                </a:solidFill>
                <a:latin typeface="Geo Sans Light NWEA"/>
              </a:rPr>
              <a:t>Technolog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"/>
          <p:cNvSpPr/>
          <p:nvPr/>
        </p:nvSpPr>
        <p:spPr>
          <a:xfrm>
            <a:off x="380880" y="990720"/>
            <a:ext cx="853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chnology skills I applied during this project were learning how to use PhotoStory 3 and learning what kinds of music fit moods. For example, when I wanted my slides to feel uplifting, I didn’t want to make it sound like the commercials for abused animals. I had to learn what was best fitting by searching uplifting on FreePlayMusic.com. When I was learning how to use PhotoStory 3, I had to think of it as something other than a new program, but one that I know how to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" descr="C:\Documents and Settings\Twlab\Local Settings\Temporary Internet Files\Content.IE5\EN1IA72F\MCj04404540000[1].wmf"/>
          <p:cNvPicPr/>
          <p:nvPr/>
        </p:nvPicPr>
        <p:blipFill>
          <a:blip r:embed="rId1"/>
          <a:stretch/>
        </p:blipFill>
        <p:spPr>
          <a:xfrm>
            <a:off x="3124080" y="3124080"/>
            <a:ext cx="2306880" cy="29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C:\Documents and Settings\Twlab\Local Settings\Temporary Internet Files\Content.IE5\6R6I2CM4\MCj04418840000[1].wmf"/>
          <p:cNvPicPr/>
          <p:nvPr/>
        </p:nvPicPr>
        <p:blipFill>
          <a:blip r:embed="rId1"/>
          <a:stretch/>
        </p:blipFill>
        <p:spPr>
          <a:xfrm>
            <a:off x="3678120" y="4724280"/>
            <a:ext cx="1787760" cy="1447920"/>
          </a:xfrm>
          <a:prstGeom prst="rect">
            <a:avLst/>
          </a:prstGeom>
          <a:ln w="0">
            <a:noFill/>
          </a:ln>
        </p:spPr>
      </p:pic>
      <p:sp>
        <p:nvSpPr>
          <p:cNvPr id="619" name="TextBox 4"/>
          <p:cNvSpPr/>
          <p:nvPr/>
        </p:nvSpPr>
        <p:spPr>
          <a:xfrm>
            <a:off x="533520" y="380880"/>
            <a:ext cx="861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b86"/>
                </a:solidFill>
                <a:latin typeface="Jokerman"/>
              </a:rPr>
              <a:t>Affective Develop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380880" y="114300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learned that I like sports more than I really thought. For example, I would only play tag and think that football was a sport for jocks. Know I know that sports are actually one of my core values. I have now realized that I enjoy photos more than I used to. For example, when I looked at photos, I saw them as pictures and not mo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valu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TextBox 2"/>
          <p:cNvSpPr/>
          <p:nvPr/>
        </p:nvSpPr>
        <p:spPr>
          <a:xfrm>
            <a:off x="304920" y="1523880"/>
            <a:ext cx="853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think my work was very amazing and that the effort I put it paid off at the end of it all. In 1 to 10 scale I’d say 8.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am proud of my musical choices because they were very happy and enjoyable. I am proud of these because it took a lot of time to find the music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of the challenges I faced were narrating while many others were too. I had to wait my turn even when others didn’t notice I was wor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my next project, I’d like to use PhotoStory again but to summarize a book (just an idea) with pictures and narration. I would like this because while PhotoStory 3 is fresh in my mind, and I’m interested in pictures and reading no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C:\Documents and Settings\Twlab\Local Settings\Temporary Internet Files\Content.IE5\CM01TH7Z\MPj04432510000[1].jpg"/>
          <p:cNvPicPr/>
          <p:nvPr/>
        </p:nvPicPr>
        <p:blipFill>
          <a:blip r:embed="rId1"/>
          <a:stretch/>
        </p:blipFill>
        <p:spPr>
          <a:xfrm>
            <a:off x="5638680" y="5105520"/>
            <a:ext cx="117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55:26Z</dcterms:created>
  <dc:creator>ITSUser</dc:creator>
  <dc:description/>
  <dc:language>en-US</dc:language>
  <cp:lastModifiedBy>ITSUser</cp:lastModifiedBy>
  <dcterms:modified xsi:type="dcterms:W3CDTF">2010-02-04T18:37:50Z</dcterms:modified>
  <cp:revision>8</cp:revision>
  <dc:subject/>
  <dc:title>Photo Essay Evaluation</dc:title>
</cp:coreProperties>
</file>